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10555288" cy="7239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5"/>
          </p:nvPr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3E767E-4EA2-4C6D-9D3F-A1B975C65091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622440" y="744120"/>
            <a:ext cx="542448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700" spc="-1" strike="noStrike">
                <a:solidFill>
                  <a:srgbClr val="7da251"/>
                </a:solidFill>
                <a:latin typeface="Arial"/>
              </a:rPr>
              <a:t>Click to move the slide</a:t>
            </a: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7"/>
          </p:nvPr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67EDC2-E8B6-4284-9B7C-44C5B1826C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5B0534-8C6D-4971-B352-32CAE301CCC0}" type="datetime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31/07/26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D662DD-3D44-4A1E-BF21-A64BE04AC15C}" type="slidenum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622440" y="744480"/>
            <a:ext cx="5424480" cy="37213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020C98-C56E-4B98-BF99-8C73A53D7647}" type="datetime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31/07/26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622440" y="744480"/>
            <a:ext cx="5424480" cy="37213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9A9232-C6B7-477B-A89B-30D0CA6C05AB}" type="slidenum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DF664-6F30-4930-AD47-E7192F396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41200" y="396324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629D5-90E4-4F81-9BFB-C993AADB6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96412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BE500-7B1B-4403-80AA-C5888667B8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36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060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412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36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5060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C2DBD-03A0-48BB-87B3-2505D70807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49120"/>
            <a:ext cx="94107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3A28-928E-46AF-892A-6DCC2AD2FD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6412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1200" y="396324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6412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236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060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12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236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5060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8496E-D666-4360-8CD2-CBE5C199B7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679BF-8426-4A93-A4F7-A7DB8EBC40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F00B5-4839-49FF-B593-76F1CA3601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7D95D-F311-470F-9F9C-E1C058766D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1BA8B-F1AA-4680-A0D1-13B5DA7846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9E72A-7769-417A-A306-86268FD16A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42640" y="249120"/>
            <a:ext cx="94107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B82C6-E0FA-4D35-AACC-31BB51D4D2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20C28-4490-468D-AE34-196C0BE339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6412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24596-9AE4-4477-A91B-A74865E6E0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D6B5B-5305-4858-A9E7-5C5FAD9468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41200" y="396324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200DA-0BC2-4613-8C94-90139CDC9BF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96412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7BD2F-69FE-4A6B-A6C3-62886FF121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236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5060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412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236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75060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AA44A-D179-4D57-8E36-10339D075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F0DB0-1DDD-4227-8619-555FFF698E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E1433-F859-4DDC-8FF9-97D1F7491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2640" y="249120"/>
            <a:ext cx="94107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171FB-3F38-4BA3-AC01-A4D1B13A58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837D5-04C2-4A53-9CCB-E99F2AF3D8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412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03A57-BDBE-457E-A01C-B49939E0D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5E48-326F-452F-8418-BD623C9D6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49120"/>
            <a:ext cx="9410760" cy="409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700" spc="-1" strike="noStrike">
                <a:solidFill>
                  <a:srgbClr val="7da251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spcBef>
                <a:spcPts val="601"/>
              </a:spcBef>
              <a:buClr>
                <a:srgbClr val="7da251"/>
              </a:buClr>
              <a:buFont typeface="Wingdings" charset="2"/>
              <a:buChar char="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2" marL="1287360" indent="-255600">
              <a:spcBef>
                <a:spcPts val="601"/>
              </a:spcBef>
              <a:buClr>
                <a:srgbClr val="7da251"/>
              </a:buClr>
              <a:buSzPct val="70000"/>
              <a:buFont typeface="Wingdings" charset="2"/>
              <a:buChar char="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3" marL="1779480" indent="-253800">
              <a:spcBef>
                <a:spcPts val="601"/>
              </a:spcBef>
              <a:buClr>
                <a:srgbClr val="7da251"/>
              </a:buClr>
              <a:buFont typeface="Arial"/>
              <a:buChar char="–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4" marL="2287440" indent="-253800">
              <a:spcBef>
                <a:spcPts val="601"/>
              </a:spcBef>
              <a:buClr>
                <a:srgbClr val="7da251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5" marL="2287440" indent="-25380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6" marL="2287440" indent="-25380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875520" y="6941520"/>
            <a:ext cx="677880" cy="28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2FBB-D34E-4BA2-988F-CE659B03CA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AutoShape 3"/>
          <p:cNvSpPr/>
          <p:nvPr/>
        </p:nvSpPr>
        <p:spPr>
          <a:xfrm>
            <a:off x="455760" y="1035000"/>
            <a:ext cx="5981400" cy="20113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0" name="Picture 22" descr=""/>
          <p:cNvPicPr/>
          <p:nvPr/>
        </p:nvPicPr>
        <p:blipFill>
          <a:blip r:embed="rId2"/>
          <a:stretch/>
        </p:blipFill>
        <p:spPr>
          <a:xfrm>
            <a:off x="9269280" y="6691320"/>
            <a:ext cx="1284480" cy="5475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8" descr="OIEau-grand"/>
          <p:cNvPicPr/>
          <p:nvPr/>
        </p:nvPicPr>
        <p:blipFill>
          <a:blip r:embed="rId3"/>
          <a:stretch/>
        </p:blipFill>
        <p:spPr>
          <a:xfrm>
            <a:off x="4151160" y="6434280"/>
            <a:ext cx="605160" cy="8046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9"/>
          <p:cNvSpPr/>
          <p:nvPr/>
        </p:nvSpPr>
        <p:spPr>
          <a:xfrm>
            <a:off x="3468600" y="288360"/>
            <a:ext cx="70851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4a87"/>
                </a:solidFill>
                <a:latin typeface="Arial"/>
              </a:rPr>
              <a:t>Pilot Project - Atmospheric Precipitation -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4a87"/>
                </a:solidFill>
                <a:latin typeface="Arial"/>
              </a:rPr>
              <a:t>Protection and efficient use of Fresh Water: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d4a87"/>
                </a:solidFill>
                <a:latin typeface="Arial"/>
              </a:rPr>
              <a:t>Integration of Natural Water Retention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d4a87"/>
                </a:solidFill>
                <a:latin typeface="Arial"/>
              </a:rPr>
              <a:t>Measures in River basin management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2d4a87"/>
                </a:solidFill>
                <a:latin typeface="Arial"/>
              </a:rPr>
              <a:t>Service contract n°ENV.D.1/SER/2013/0010</a:t>
            </a:r>
            <a:r>
              <a:rPr b="1" lang="fr-FR" sz="1800" spc="-1" strike="noStrike">
                <a:solidFill>
                  <a:srgbClr val="2d4a87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" name="Picture 30" descr="Photo p1 leaflet"/>
          <p:cNvPicPr/>
          <p:nvPr/>
        </p:nvPicPr>
        <p:blipFill>
          <a:blip r:embed="rId4"/>
          <a:stretch/>
        </p:blipFill>
        <p:spPr>
          <a:xfrm>
            <a:off x="0" y="0"/>
            <a:ext cx="3448080" cy="7238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249120"/>
            <a:ext cx="9410760" cy="409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700" spc="-1" strike="noStrike">
                <a:solidFill>
                  <a:srgbClr val="7da251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spcBef>
                <a:spcPts val="601"/>
              </a:spcBef>
              <a:buClr>
                <a:srgbClr val="7da251"/>
              </a:buClr>
              <a:buFont typeface="Wingdings" charset="2"/>
              <a:buChar char="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2" marL="1287360" indent="-255600">
              <a:spcBef>
                <a:spcPts val="601"/>
              </a:spcBef>
              <a:buClr>
                <a:srgbClr val="7da251"/>
              </a:buClr>
              <a:buSzPct val="70000"/>
              <a:buFont typeface="Wingdings" charset="2"/>
              <a:buChar char="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3" marL="1779480" indent="-253800">
              <a:spcBef>
                <a:spcPts val="601"/>
              </a:spcBef>
              <a:buClr>
                <a:srgbClr val="7da251"/>
              </a:buClr>
              <a:buFont typeface="Arial"/>
              <a:buChar char="–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4" marL="2287440" indent="-253800">
              <a:spcBef>
                <a:spcPts val="601"/>
              </a:spcBef>
              <a:buClr>
                <a:srgbClr val="7da251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5" marL="2287440" indent="-25380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6" marL="2287440" indent="-25380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3078000" y="6892560"/>
            <a:ext cx="2198880" cy="34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9FD6-443F-450C-B147-4E63C0EFE4FF}" type="datetime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063600" y="6921720"/>
            <a:ext cx="6659640" cy="269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4"/>
          <p:cNvSpPr/>
          <p:nvPr/>
        </p:nvSpPr>
        <p:spPr>
          <a:xfrm>
            <a:off x="879480" y="241200"/>
            <a:ext cx="5892840" cy="642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1144440" y="6802200"/>
            <a:ext cx="4900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GB" sz="1100" spc="-1" strike="noStrike">
                <a:solidFill>
                  <a:srgbClr val="003366"/>
                </a:solidFill>
                <a:latin typeface="Verdana"/>
              </a:rPr>
              <a:t></a:t>
            </a:r>
            <a:r>
              <a:rPr b="0" i="1" lang="en-GB" sz="1100" spc="-1" strike="noStrike">
                <a:solidFill>
                  <a:srgbClr val="003366"/>
                </a:solidFill>
                <a:latin typeface="Verdana"/>
              </a:rPr>
              <a:t>07.0330/2013/659147/SER/ENV.C1- DGENV – Brussels 22/01/14 p.strosser@acteon-environment.eu</a:t>
            </a:r>
            <a:endParaRPr b="1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6" name="Picture 22" descr="DSC_0014"/>
          <p:cNvPicPr/>
          <p:nvPr/>
        </p:nvPicPr>
        <p:blipFill>
          <a:blip r:embed="rId2"/>
          <a:stretch/>
        </p:blipFill>
        <p:spPr>
          <a:xfrm>
            <a:off x="0" y="0"/>
            <a:ext cx="1147680" cy="72388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49120"/>
            <a:ext cx="9410760" cy="409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700" spc="-1" strike="noStrike">
                <a:solidFill>
                  <a:srgbClr val="7da251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spcBef>
                <a:spcPts val="601"/>
              </a:spcBef>
              <a:buClr>
                <a:srgbClr val="7da251"/>
              </a:buClr>
              <a:buFont typeface="Wingdings" charset="2"/>
              <a:buChar char="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2" marL="1287360" indent="-255600">
              <a:spcBef>
                <a:spcPts val="601"/>
              </a:spcBef>
              <a:buClr>
                <a:srgbClr val="7da251"/>
              </a:buClr>
              <a:buSzPct val="70000"/>
              <a:buFont typeface="Wingdings" charset="2"/>
              <a:buChar char="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3" marL="1779480" indent="-253800">
              <a:spcBef>
                <a:spcPts val="601"/>
              </a:spcBef>
              <a:buClr>
                <a:srgbClr val="7da251"/>
              </a:buClr>
              <a:buFont typeface="Arial"/>
              <a:buChar char="–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4" marL="2287440" indent="-253800">
              <a:spcBef>
                <a:spcPts val="601"/>
              </a:spcBef>
              <a:buClr>
                <a:srgbClr val="7da251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5" marL="2287440" indent="-25380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6" marL="2287440" indent="-25380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4"/>
          </p:nvPr>
        </p:nvSpPr>
        <p:spPr>
          <a:xfrm>
            <a:off x="9875520" y="6941520"/>
            <a:ext cx="677880" cy="28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C9E8-8872-47EC-A409-C180EE7F8421}" type="slidenum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3"/>
          <p:cNvSpPr/>
          <p:nvPr/>
        </p:nvSpPr>
        <p:spPr>
          <a:xfrm>
            <a:off x="3468600" y="2278080"/>
            <a:ext cx="7085160" cy="33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da251"/>
                </a:solidFill>
                <a:latin typeface="Arial"/>
              </a:rPr>
              <a:t>ROUND TABLE DISCUSSION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da251"/>
                </a:solidFill>
                <a:latin typeface="Arial"/>
              </a:rPr>
              <a:t>Implementing NWRM in the EU policy contex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7da251"/>
                </a:solidFill>
                <a:latin typeface="Arial"/>
              </a:rPr>
              <a:t>With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da251"/>
                </a:solidFill>
                <a:latin typeface="Arial"/>
              </a:rPr>
              <a:t>Claire Mc Camphill, European Commission, DG Environment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da251"/>
                </a:solidFill>
                <a:latin typeface="Arial"/>
              </a:rPr>
              <a:t>Thomas Borchers, Federal Ministry for the Environment, Nature Conservation, Building and Nuclear Safety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da251"/>
                </a:solidFill>
                <a:latin typeface="Arial"/>
              </a:rPr>
              <a:t>Benoît Grandmougin, Alsace Region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da251"/>
                </a:solidFill>
                <a:latin typeface="Arial"/>
              </a:rPr>
              <a:t>Peter Close, Northern Ireland Environmental Agency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9875880" y="6941880"/>
            <a:ext cx="67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4BF8-69A2-4AA2-A77A-3331E15E441E}" type="slidenum">
              <a:rPr b="1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23720" y="-360"/>
            <a:ext cx="8466120" cy="515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400" spc="-1" strike="noStrike">
                <a:solidFill>
                  <a:srgbClr val="7da251"/>
                </a:solidFill>
                <a:latin typeface="Verdana"/>
              </a:rPr>
              <a:t>Question 1</a:t>
            </a:r>
            <a:endParaRPr b="1" lang="en-US" sz="24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3280" y="646200"/>
            <a:ext cx="8529840" cy="2270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000" spc="-1" strike="noStrike">
                <a:solidFill>
                  <a:srgbClr val="2d4a87"/>
                </a:solidFill>
                <a:latin typeface="Verdana"/>
              </a:rPr>
              <a:t>What are the main opportunities for NWRM implementation within the current regulatory framework? Where do we miss opportunities?</a:t>
            </a:r>
            <a:endParaRPr b="1" lang="en-US" sz="20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37" name="ZoneTexte 4"/>
          <p:cNvSpPr/>
          <p:nvPr/>
        </p:nvSpPr>
        <p:spPr>
          <a:xfrm>
            <a:off x="1158840" y="6818400"/>
            <a:ext cx="5284800" cy="38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3366"/>
                </a:solidFill>
                <a:latin typeface="Verdana"/>
                <a:ea typeface="Verdana"/>
              </a:rPr>
              <a:t>07.0330/2013/659147/SER/ENV.C1- DGENV – Strasbourg, 1/7/2014</a:t>
            </a:r>
            <a:endParaRPr b="1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3366"/>
                </a:solidFill>
                <a:latin typeface="Verdana"/>
                <a:ea typeface="Verdana"/>
              </a:rPr>
              <a:t>g.depaoli@acteon–environment.eu   p.strosser@acteon-environment.eu </a:t>
            </a:r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1319040" y="2281320"/>
            <a:ext cx="84664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400" spc="-1" strike="noStrike">
                <a:solidFill>
                  <a:srgbClr val="7da251"/>
                </a:solidFill>
                <a:latin typeface="Verdana"/>
              </a:rPr>
              <a:t>Question 2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1398600" y="2927520"/>
            <a:ext cx="852948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000" spc="-1" strike="noStrike">
                <a:solidFill>
                  <a:srgbClr val="2d4a87"/>
                </a:solidFill>
                <a:latin typeface="Verdana"/>
              </a:rPr>
              <a:t>How should current “catchment management planning” be adapted (and why) so NWRM are better considered? (land issues)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1266840" y="4419720"/>
            <a:ext cx="84661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400" spc="-1" strike="noStrike">
                <a:solidFill>
                  <a:srgbClr val="7da251"/>
                </a:solidFill>
                <a:latin typeface="Verdana"/>
              </a:rPr>
              <a:t>Question 3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46040" y="5065560"/>
            <a:ext cx="852984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000" spc="-1" strike="noStrike">
                <a:solidFill>
                  <a:srgbClr val="2d4a87"/>
                </a:solidFill>
                <a:latin typeface="Verdana"/>
              </a:rPr>
              <a:t>What mechanisms are needed to ensure integration across different policies (WFD, FD, Habitats, CC...)– so NWRM find their due role?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7:31:32Z</dcterms:created>
  <dc:creator>Sylvain Grellet</dc:creator>
  <dc:description/>
  <dc:language>en-US</dc:language>
  <cp:lastModifiedBy>Pierre S</cp:lastModifiedBy>
  <cp:lastPrinted>2004-03-22T17:51:16Z</cp:lastPrinted>
  <dcterms:modified xsi:type="dcterms:W3CDTF">2014-07-01T14:09:30Z</dcterms:modified>
  <cp:revision>1118</cp:revision>
  <dc:subject/>
  <dc:title>Sandre-SIE</dc:title>
</cp:coreProperties>
</file>