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0555288" cy="7239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5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28FA84-57B1-4361-B522-3E038D79634D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622440" y="744120"/>
            <a:ext cx="542448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move the slide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7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BE5334-4D9A-498C-87AD-F6B37B2773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8D479F-A600-42B2-8FBE-8F1C4C7EFEFA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610E80-A2D7-4B0B-82FA-4EB4DADF2888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5DD48C-A043-4D45-B8EE-FDF881A86EF6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AADB01-AC02-4C18-BD04-2296F9B6298A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108B40-ED4E-472D-8E97-CB148D6F7FE2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2BF21B-4884-432C-A8AB-EF3407730FBB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899D-4829-47C5-8F7C-349BC9CD2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4595-E7A1-4443-B271-B6D79F067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A691-E01C-4EE9-8B69-7B836D418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C47D-C41B-421F-8EE2-BF036C130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2379-20F3-458B-986A-0503207FE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DBBC0-5807-4CDC-9EA0-3CC48F8B8C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285A6-FB8A-4AC0-9F36-50640D44E2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B2FF6-B8C6-4759-BEF5-1F582F3222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7C65A-4BDF-4209-A003-A0190E37E8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29B38-D898-41D4-A737-F973AFA7E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0F60-D836-414E-93C5-85CC30FB13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B3B5D-BB6D-4F11-86D3-1AC1D1E296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2B09F-524C-4F26-AD5B-1D50A95B34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53C04-D02F-43F7-ACE9-C1E3D3F93A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A698B-938F-49A9-BA05-CCC30119B5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2BEA2-BBD0-4D93-9662-582391CE77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6A803-8DEC-410E-83E3-68B3E5E492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B1C5E-A2CD-4852-B754-51D41E632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6880-0517-42A8-8C95-70E856A4F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82BA-AA54-445C-8E72-05EECC37B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1947-0FE9-4F41-87C3-4364A91C3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C6DF-6F04-4F96-AF39-46F83F636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C254-7CD2-4005-BFA5-2A765DE08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D891-270E-4C3E-9703-4617CE2ED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875520" y="6941520"/>
            <a:ext cx="677880" cy="28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2BD7-64E9-45D6-A263-910DA26440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3"/>
          <p:cNvSpPr/>
          <p:nvPr/>
        </p:nvSpPr>
        <p:spPr>
          <a:xfrm>
            <a:off x="455760" y="1035000"/>
            <a:ext cx="5981400" cy="2011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9269280" y="6691320"/>
            <a:ext cx="1284480" cy="547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8" descr="OIEau-grand"/>
          <p:cNvPicPr/>
          <p:nvPr/>
        </p:nvPicPr>
        <p:blipFill>
          <a:blip r:embed="rId3"/>
          <a:stretch/>
        </p:blipFill>
        <p:spPr>
          <a:xfrm>
            <a:off x="4151160" y="6434280"/>
            <a:ext cx="605160" cy="804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9"/>
          <p:cNvSpPr/>
          <p:nvPr/>
        </p:nvSpPr>
        <p:spPr>
          <a:xfrm>
            <a:off x="3468600" y="288360"/>
            <a:ext cx="7085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4a87"/>
                </a:solidFill>
                <a:latin typeface="Arial"/>
              </a:rPr>
              <a:t>Pilot Project - Atmospheric Precipitation -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4a87"/>
                </a:solidFill>
                <a:latin typeface="Arial"/>
              </a:rPr>
              <a:t>Protection and efficient use of Fresh Water: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Integration of Natural Water Reten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Measures in River basin managemen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2d4a87"/>
                </a:solidFill>
                <a:latin typeface="Arial"/>
              </a:rPr>
              <a:t>Service contract n°ENV.D.1/SER/2013/0010</a:t>
            </a: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" name="Picture 30" descr="Photo p1 leaflet"/>
          <p:cNvPicPr/>
          <p:nvPr/>
        </p:nvPicPr>
        <p:blipFill>
          <a:blip r:embed="rId4"/>
          <a:stretch/>
        </p:blipFill>
        <p:spPr>
          <a:xfrm>
            <a:off x="0" y="0"/>
            <a:ext cx="3448080" cy="7238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078000" y="6892560"/>
            <a:ext cx="2198880" cy="34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89E0-247C-4365-89DD-AF50407B50BB}" type="datetime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063600" y="6921720"/>
            <a:ext cx="6659640" cy="269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879480" y="241200"/>
            <a:ext cx="5892840" cy="64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1144440" y="6802200"/>
            <a:ext cx="4900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GB" sz="1100" spc="-1" strike="noStrike">
                <a:solidFill>
                  <a:srgbClr val="003366"/>
                </a:solidFill>
                <a:latin typeface="Verdana"/>
              </a:rPr>
              <a:t></a:t>
            </a:r>
            <a:r>
              <a:rPr b="0" i="1" lang="en-GB" sz="1100" spc="-1" strike="noStrike">
                <a:solidFill>
                  <a:srgbClr val="003366"/>
                </a:solidFill>
                <a:latin typeface="Verdana"/>
              </a:rPr>
              <a:t>07.0330/2013/659147/SER/ENV.C1- DGENV – Brussels 22/01/14 n.amorsi@oieau.Fr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6" name="Picture 22" descr="DSC_0014"/>
          <p:cNvPicPr/>
          <p:nvPr/>
        </p:nvPicPr>
        <p:blipFill>
          <a:blip r:embed="rId2"/>
          <a:stretch/>
        </p:blipFill>
        <p:spPr>
          <a:xfrm>
            <a:off x="0" y="0"/>
            <a:ext cx="1147680" cy="7238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9875520" y="6941520"/>
            <a:ext cx="677880" cy="28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80C-3801-4792-A479-40E7B944D833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3"/>
          <p:cNvSpPr/>
          <p:nvPr/>
        </p:nvSpPr>
        <p:spPr>
          <a:xfrm>
            <a:off x="3067200" y="2307960"/>
            <a:ext cx="803268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A regional workshop on NWRM: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what for?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da251"/>
                </a:solidFill>
                <a:latin typeface="Arial"/>
              </a:rPr>
              <a:t>Pierre Stross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da251"/>
                </a:solidFill>
                <a:latin typeface="Arial"/>
              </a:rPr>
              <a:t>ACTeon, Fran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288E-D668-41C3-8945-FA976F569E72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843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If you are here, it might be because...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79560" y="1924200"/>
            <a:ext cx="7958160" cy="3798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Verdana"/>
                <a:ea typeface="Verdana"/>
              </a:rPr>
              <a:t>You are an NWRM fan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Verdana"/>
                <a:ea typeface="Verdana"/>
              </a:rPr>
              <a:t>You have an interest in methods that give: 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792720" indent="-29520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more space to “natural processes” for improving water management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792720" indent="-29520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Help achieving multiple objectives (FD, WFD, Habitats, CC adaptation…)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Verdana"/>
                <a:ea typeface="Verdana"/>
              </a:rPr>
              <a:t>You are looking for solutions for removing constraints on NWRM implementation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79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9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BE6D-B6AB-4192-9A8D-E9A0D9849537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54080" y="-44640"/>
            <a:ext cx="580392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This workshop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8560" y="1053720"/>
            <a:ext cx="9280440" cy="3799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Verdana"/>
                <a:ea typeface="Verdana"/>
              </a:rPr>
              <a:t>Organised in the context of EC/EU initiatives for promoting the use of NWRM 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656280" indent="-24444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This study, group drafting a policy document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Verdana"/>
                <a:ea typeface="Verdana"/>
              </a:rPr>
              <a:t>Addressing a central policy question 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656280" indent="-24444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how to adapt catchment management for widening the potential of NWRMs?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Verdana"/>
                <a:ea typeface="Verdana"/>
              </a:rPr>
              <a:t>And many discussion topics : 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656280" indent="-24444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Policy and planning frameworks, integrated (interconnected) planning at the catchment level, NWRM and implementation of relevant EU Directives, financing….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Verdana"/>
                <a:ea typeface="Verdana"/>
              </a:rPr>
              <a:t>Contributing to..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656280" indent="-24444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The sharing of practice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656280" indent="-24444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The development of knowledge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656280" indent="-24444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Practical guidance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tshållare för bildnummer 1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0FFB-E763-41CE-B318-C5109D18D0F1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14600" y="190440"/>
            <a:ext cx="826776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What does the workshop offer? 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185840" y="1214280"/>
            <a:ext cx="9117000" cy="31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Jumping into reality: the Altenheim polder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Three preparatory step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NWRM &amp; catchment management: concepts &amp; issu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NWRM within the EU policy framework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Financing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Searching for operational solutions</a:t>
            </a: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 – which role for NWRM in the management of three catchments? (role play)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Ill River (France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Polder Altenheim (Germany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Quaggy River (UK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You said: lessons?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Overal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For the practical guidanc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And also:</a:t>
            </a: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 food (here, outside), coffee, Strasbourg….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tshållare för bildnummer 1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43F3-967D-40EE-ABC8-56703BC8B026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614600" y="500040"/>
            <a:ext cx="826776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The key principles guiding the workshop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468520" y="2320920"/>
            <a:ext cx="7043760" cy="31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fr-FR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Interactiveness (do not forget to introduce yourself…)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fr-FR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Practical and operational (case studies, but not only)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fr-FR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Focused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Enjoyment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tshållare för bildnummer 1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16C-9BC5-4D03-A928-24A7D861E672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14600" y="500040"/>
            <a:ext cx="826776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For practical aspects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468520" y="1774800"/>
            <a:ext cx="7043760" cy="31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fr-FR" sz="2400" spc="-1" strike="noStrike">
                <a:solidFill>
                  <a:srgbClr val="2d4a87"/>
                </a:solidFill>
                <a:latin typeface="Verdana"/>
              </a:rPr>
              <a:t>If you need help: contact Gloria, Verena, Camille, Pierre, Anaïs, Sabine, Alexandr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fr-FR" sz="2400" spc="-1" strike="noStrike">
                <a:solidFill>
                  <a:srgbClr val="2d4a87"/>
                </a:solidFill>
                <a:latin typeface="Verdana"/>
              </a:rPr>
              <a:t>Food – lunches &amp; coffee break (Room 422), tonight Tire-Bouchon (close to Cathedral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fr-FR" sz="2400" spc="-1" strike="noStrike">
                <a:solidFill>
                  <a:srgbClr val="2d4a87"/>
                </a:solidFill>
                <a:latin typeface="Verdana"/>
              </a:rPr>
              <a:t>Supporting the work of interprete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fr-FR" sz="2400" spc="-1" strike="noStrike">
                <a:solidFill>
                  <a:srgbClr val="2d4a87"/>
                </a:solidFill>
                <a:latin typeface="Verdana"/>
              </a:rPr>
              <a:t>Signing for the groups (break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tshållare för bildnummer 1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BEFD-E445-498D-B05C-F5D430368F85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614600" y="500040"/>
            <a:ext cx="826776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Any questions, request for clarification? 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468520" y="2320920"/>
            <a:ext cx="7043760" cy="31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fr-FR" sz="2400" spc="-1" strike="noStrike">
                <a:solidFill>
                  <a:srgbClr val="2d4a87"/>
                </a:solidFill>
                <a:latin typeface="Verdana"/>
              </a:rPr>
              <a:t>So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fr-FR" sz="2400" spc="-1" strike="noStrike">
                <a:solidFill>
                  <a:srgbClr val="2d4a87"/>
                </a:solidFill>
                <a:latin typeface="Verdana"/>
              </a:rPr>
              <a:t>…</a:t>
            </a:r>
            <a:r>
              <a:rPr b="0" lang="fr-FR" sz="2400" spc="-1" strike="noStrike">
                <a:solidFill>
                  <a:srgbClr val="2d4a87"/>
                </a:solidFill>
                <a:latin typeface="Verdana"/>
              </a:rPr>
              <a:t>. Let’s </a:t>
            </a:r>
            <a:r>
              <a:rPr b="1" lang="fr-FR" sz="2400" spc="-1" strike="noStrike">
                <a:solidFill>
                  <a:srgbClr val="2d4a87"/>
                </a:solidFill>
                <a:latin typeface="Verdana"/>
              </a:rPr>
              <a:t>start and enjoy!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7:31:32Z</dcterms:created>
  <dc:creator>Sylvain Grellet</dc:creator>
  <dc:description/>
  <dc:language>en-US</dc:language>
  <cp:lastModifiedBy>Pierre S</cp:lastModifiedBy>
  <cp:lastPrinted>2004-03-22T17:51:16Z</cp:lastPrinted>
  <dcterms:modified xsi:type="dcterms:W3CDTF">2014-07-01T11:03:55Z</dcterms:modified>
  <cp:revision>1191</cp:revision>
  <dc:subject/>
  <dc:title>Sandre-SIE</dc:title>
</cp:coreProperties>
</file>