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555288" cy="7239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D3733-5BE5-44B0-9721-2900B8EFED9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622440" y="744120"/>
            <a:ext cx="542448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move the slide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96FC5-A748-4C3D-A50A-4B03EAE70D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990CD5-2F2A-4B27-ABA4-A5DA0D868F8F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D7B4E-9DA9-4634-BAE3-DE8CACAAE93D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B1E1CA-EE3F-42F1-9EB1-5AEC14ACAA65}" type="datetime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22440" y="744480"/>
            <a:ext cx="5424480" cy="3721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71F114-0447-45E8-9DA1-923E6FEEBCA6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5906-23A3-46B3-A54E-B6D27EB00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7869-A1DF-4367-851A-BE7BB19B9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B2DA-DEC6-4D9E-ACF8-9107187D8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CF79-7D03-4182-9348-E285FC1B8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A713-8E44-440F-AA37-E3180E8FB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99701-E804-4ED3-8288-03AD2C4B6B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C8905-4A12-45DF-8FE9-FA51853570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904B5-33DE-41EA-9B12-2F8F4100C1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68596-0282-4749-9059-AAB405BD9B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EBA27-CC83-4752-8B99-4569813383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BF4A-DD24-48B7-B34C-66CC2F5A62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5918F-6BFA-4EA7-B216-748D7D67FE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9CC0C-6FE7-4E87-8185-95758C2609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256A0-FFE5-478C-9C8E-73578F4910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F71CB-C375-4D78-AC79-2A037B031A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5A48A-0012-4BB6-800F-36E6BEB4BA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DFECA-0F65-499A-8DCA-EDAA214285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236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06000" y="127476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412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236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506000" y="3963240"/>
            <a:ext cx="30304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AD4BA-5518-4CA1-AB34-9054A6BD7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6DAF-B516-4D84-AF2A-B00E42EF4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377A-9498-4F0D-BDAE-F5C1C0A26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2640" y="249120"/>
            <a:ext cx="94107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6D28-3C40-49F0-A5A4-F4299DB25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8893-E099-4922-BAD1-ADBF4F5E3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4120" y="396324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C11C-538E-415A-A322-80E276045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86840"/>
            <a:ext cx="9410760" cy="47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64120" y="1274760"/>
            <a:ext cx="459288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1200" y="3963240"/>
            <a:ext cx="941220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5115-8D1B-4FC0-880B-86FA17949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875520" y="6941520"/>
            <a:ext cx="677880" cy="28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08BD-6B3F-4295-8C0A-266F7D8ED2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3"/>
          <p:cNvSpPr/>
          <p:nvPr/>
        </p:nvSpPr>
        <p:spPr>
          <a:xfrm>
            <a:off x="455760" y="1035000"/>
            <a:ext cx="5981400" cy="20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9269280" y="6691320"/>
            <a:ext cx="1284480" cy="547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8" descr="OIEau-grand"/>
          <p:cNvPicPr/>
          <p:nvPr/>
        </p:nvPicPr>
        <p:blipFill>
          <a:blip r:embed="rId3"/>
          <a:stretch/>
        </p:blipFill>
        <p:spPr>
          <a:xfrm>
            <a:off x="4151160" y="6434280"/>
            <a:ext cx="605160" cy="804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9"/>
          <p:cNvSpPr/>
          <p:nvPr/>
        </p:nvSpPr>
        <p:spPr>
          <a:xfrm>
            <a:off x="3468600" y="288360"/>
            <a:ext cx="7085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4a87"/>
                </a:solidFill>
                <a:latin typeface="Arial"/>
              </a:rPr>
              <a:t>Pilot Project - Atmospheric Precipitation -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4a87"/>
                </a:solidFill>
                <a:latin typeface="Arial"/>
              </a:rPr>
              <a:t>Protection and efficient use of Fresh Water: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Integration of Natural Water Reten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Measures in River basin managemen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d4a87"/>
                </a:solidFill>
                <a:latin typeface="Arial"/>
              </a:rPr>
              <a:t>Service contract n°ENV.D.1/SER/2013/0010</a:t>
            </a:r>
            <a:r>
              <a:rPr b="1" lang="fr-FR" sz="1800" spc="-1" strike="noStrike">
                <a:solidFill>
                  <a:srgbClr val="2d4a8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Picture 30" descr="Photo p1 leaflet"/>
          <p:cNvPicPr/>
          <p:nvPr/>
        </p:nvPicPr>
        <p:blipFill>
          <a:blip r:embed="rId4"/>
          <a:stretch/>
        </p:blipFill>
        <p:spPr>
          <a:xfrm>
            <a:off x="0" y="0"/>
            <a:ext cx="344808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078000" y="6892560"/>
            <a:ext cx="2198880" cy="34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BB03-2213-4B35-9589-B2AED15B54D9}" type="datetime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063600" y="6921720"/>
            <a:ext cx="6659640" cy="269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879480" y="241200"/>
            <a:ext cx="5892840" cy="64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144440" y="6802200"/>
            <a:ext cx="4900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1100" spc="-1" strike="noStrike">
                <a:solidFill>
                  <a:srgbClr val="003366"/>
                </a:solidFill>
                <a:latin typeface="Verdana"/>
              </a:rPr>
              <a:t></a:t>
            </a:r>
            <a:r>
              <a:rPr b="0" i="1" lang="en-GB" sz="1100" spc="-1" strike="noStrike">
                <a:solidFill>
                  <a:srgbClr val="003366"/>
                </a:solidFill>
                <a:latin typeface="Verdana"/>
              </a:rPr>
              <a:t>07.0330/2013/659147/SER/ENV.C1- DGENV – Brussels 22/01/14 n.amorsi@oieau.Fr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6" name="Picture 22" descr="DSC_0014"/>
          <p:cNvPicPr/>
          <p:nvPr/>
        </p:nvPicPr>
        <p:blipFill>
          <a:blip r:embed="rId2"/>
          <a:stretch/>
        </p:blipFill>
        <p:spPr>
          <a:xfrm>
            <a:off x="0" y="0"/>
            <a:ext cx="1147680" cy="7238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4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7da251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52480" indent="-317520">
              <a:spcBef>
                <a:spcPts val="601"/>
              </a:spcBef>
              <a:buClr>
                <a:srgbClr val="7da251"/>
              </a:buClr>
              <a:buFont typeface="Wingdings" charset="2"/>
              <a:buChar char="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2" marL="1287360" indent="-255600">
              <a:spcBef>
                <a:spcPts val="601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3" marL="1779480" indent="-253800">
              <a:spcBef>
                <a:spcPts val="601"/>
              </a:spcBef>
              <a:buClr>
                <a:srgbClr val="7da251"/>
              </a:buClr>
              <a:buFont typeface="Arial"/>
              <a:buChar char="–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4" marL="2287440" indent="-253800">
              <a:spcBef>
                <a:spcPts val="601"/>
              </a:spcBef>
              <a:buClr>
                <a:srgbClr val="7da251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5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6" marL="2287440" indent="-25380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9875520" y="6941520"/>
            <a:ext cx="677880" cy="28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CE45-2AD9-453F-8B3A-91D5399025E5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3"/>
          <p:cNvSpPr/>
          <p:nvPr/>
        </p:nvSpPr>
        <p:spPr>
          <a:xfrm>
            <a:off x="3468600" y="2423880"/>
            <a:ext cx="708516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A guidance for supporting the implemention of NWRM in Europe?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da251"/>
                </a:solidFill>
                <a:latin typeface="Arial"/>
              </a:rPr>
              <a:t>Pierre Stross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da251"/>
                </a:solidFill>
                <a:latin typeface="Arial"/>
              </a:rPr>
              <a:t>ACTeon, Fran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AB5C-D627-495A-AA80-1B78383FED71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9410760" cy="843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The demand</a:t>
            </a:r>
            <a:endParaRPr b="1" lang="en-US" sz="2700" spc="-1" strike="noStrike">
              <a:solidFill>
                <a:srgbClr val="7da2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1200" y="1274760"/>
            <a:ext cx="941220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The information collected… should be processed… 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26560" indent="-30780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to draft an electronic practical guide 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26560" indent="-30780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for planning measures 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26560" indent="-30780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at catchment level. 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2d4a87"/>
                </a:solidFill>
                <a:latin typeface="Verdana"/>
                <a:ea typeface="Verdana"/>
              </a:rPr>
              <a:t>This guide should address River Basin /catchment managers, and should focus on </a:t>
            </a:r>
            <a:endParaRPr b="1" lang="en-US" sz="2400" spc="-1" strike="noStrike">
              <a:solidFill>
                <a:srgbClr val="2d4a87"/>
              </a:solidFill>
              <a:latin typeface="Arial"/>
            </a:endParaRPr>
          </a:p>
          <a:p>
            <a:pPr lvl="1" marL="826560" indent="-30780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providing reliable and comprehensible information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26560" indent="-30780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that can guide policy implementation decisions for catchment planning 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  <a:p>
            <a:pPr lvl="1" marL="826560" indent="-30780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Verdana"/>
              </a:rPr>
              <a:t>and selection of measures to be considered for RBMPs and FRMPs</a:t>
            </a:r>
            <a:endParaRPr b="0" lang="en-US" sz="2200" spc="-1" strike="noStrike">
              <a:solidFill>
                <a:srgbClr val="2d4a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tshållare för bildnummer 1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EF71-0D3A-4226-B264-48FD34B8D3FD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043000" y="249120"/>
            <a:ext cx="75438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The proposed structure of the practical guidance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Objet 2" descr=""/>
          <p:cNvPicPr/>
          <p:nvPr/>
        </p:nvPicPr>
        <p:blipFill>
          <a:blip r:embed="rId1"/>
          <a:srcRect l="0" t="-115" r="0" b="-101"/>
          <a:stretch/>
        </p:blipFill>
        <p:spPr>
          <a:xfrm>
            <a:off x="2801880" y="1268280"/>
            <a:ext cx="568188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tshållare för bildnummer 1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0C1-AB42-450C-81FB-A75C7B16FE00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881360" y="249120"/>
            <a:ext cx="83390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With (many) challenges you will hear today and tomorrow in terms of....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244520" y="1467000"/>
            <a:ext cx="859320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The right scale of analysis – and the different meanings of “catchment management”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Integration of WFD, FD, Habitats or adaptation to CC but....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Split responsibiliti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From water management to integrated land and water management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Interesting for everybody... and nobody as retention might be (often) a secondary benefit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The name of our “area of interest” (NWRM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2d4a87"/>
                </a:solidFill>
                <a:latin typeface="Verdana"/>
                <a:ea typeface="Times New Roman"/>
              </a:rPr>
              <a:t>(But: multi-purpose means multi-financing, so... maybe an incentive? 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tshållare för bildnummer 1"/>
          <p:cNvSpPr/>
          <p:nvPr/>
        </p:nvSpPr>
        <p:spPr>
          <a:xfrm>
            <a:off x="9875880" y="6941880"/>
            <a:ext cx="67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2EC8-EA50-4EA8-B760-8A2C305C979F}" type="slidenum">
              <a:rPr b="1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614600" y="500040"/>
            <a:ext cx="826776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700" spc="-1" strike="noStrike">
                <a:solidFill>
                  <a:srgbClr val="7da251"/>
                </a:solidFill>
                <a:latin typeface="Verdana"/>
              </a:rPr>
              <a:t>Thus, from now on, keep in mind questions such as...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22400" y="1598760"/>
            <a:ext cx="87343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Q1 – Which knowledge would you need for helping you to: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Design NWRM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Implement NWRM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Monitor &amp; evaluate NWRM?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Q2 – What are key issues the guidance should address in priority? Relevant to….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The integration of FD &amp; WFD… and other policies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2d4a87"/>
                </a:solidFill>
                <a:latin typeface="Verdana"/>
                <a:ea typeface="Times New Roman"/>
              </a:rPr>
              <a:t>Western Europe/her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87360" indent="-255600">
              <a:lnSpc>
                <a:spcPct val="100000"/>
              </a:lnSpc>
              <a:spcBef>
                <a:spcPts val="499"/>
              </a:spcBef>
              <a:buClr>
                <a:srgbClr val="7da251"/>
              </a:buClr>
              <a:buSzPct val="70000"/>
              <a:buFont typeface="Wingdings" charset="2"/>
              <a:buChar char="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buClr>
                <a:srgbClr val="7da251"/>
              </a:buClr>
              <a:buFont typeface="Wingdings" charset="2"/>
              <a:buChar char="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2d4a87"/>
                </a:solidFill>
                <a:latin typeface="Verdana"/>
                <a:ea typeface="Times New Roman"/>
              </a:rPr>
              <a:t>Q3 – Tips (content, format, process…) for making the guidance “more useful”?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7:31:32Z</dcterms:created>
  <dc:creator>Sylvain Grellet</dc:creator>
  <dc:description/>
  <dc:language>en-US</dc:language>
  <cp:lastModifiedBy>Pierre S</cp:lastModifiedBy>
  <cp:lastPrinted>2004-03-22T17:51:16Z</cp:lastPrinted>
  <dcterms:modified xsi:type="dcterms:W3CDTF">2014-07-01T11:03:36Z</dcterms:modified>
  <cp:revision>1186</cp:revision>
  <dc:subject/>
  <dc:title>Sandre-SIE</dc:title>
</cp:coreProperties>
</file>